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B5FF-C84D-4BB5-B6F1-C27B3083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6B47-10A7-4563-901D-B1D0658F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EE7-3241-4685-B5CC-9A70DB9D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8A23-706A-4B06-B5E0-39039693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C61E-ADEF-47D4-9E86-13A746E1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7F9-7659-484C-B1C3-C293E2AB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03F4-8FBD-4A17-B7F1-871A3F4B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6DF3-B179-42D1-8FBF-AEBA6852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5452-250D-43AE-9F77-2BF10610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240C-A5EB-4570-A1CE-3A8A2D68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67B5-BD0D-43B1-ADC6-B522FFCC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9CA2-E47D-443D-9C74-2B68BF9B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902D-9CD6-41AA-8503-CAB10F4A2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itate-celebre.com/category/citate/citate-despre-natura/" TargetMode="External"/><Relationship Id="rId2" Type="http://schemas.openxmlformats.org/officeDocument/2006/relationships/hyperlink" Target="http://www.citate-celebre.com/category/citate/citate-despre-natura/" TargetMode="External"/><Relationship Id="rId3" Type="http://schemas.openxmlformats.org/officeDocument/2006/relationships/hyperlink" Target="http://www.citate-celebre.com/category/citate/citate-despre-natura/" TargetMode="External"/><Relationship Id="rId4" Type="http://schemas.openxmlformats.org/officeDocument/2006/relationships/hyperlink" Target="http://www.citate-celebre.com/category/citate/citate-despre-natura/" TargetMode="External"/><Relationship Id="rId5" Type="http://schemas.openxmlformats.org/officeDocument/2006/relationships/hyperlink" Target="http://www.citate-celebre.com/category/citate/citate-despre-natura/" TargetMode="External"/><Relationship Id="rId6" Type="http://schemas.openxmlformats.org/officeDocument/2006/relationships/hyperlink" Target="http://www.citate-celebre.com/category/citate/citate-despre-natura/" TargetMode="External"/><Relationship Id="rId7" Type="http://schemas.openxmlformats.org/officeDocument/2006/relationships/hyperlink" Target="http://www.citate-celebre.com/category/citate/citate-despre-natura/" TargetMode="External"/><Relationship Id="rId8" Type="http://schemas.openxmlformats.org/officeDocument/2006/relationships/hyperlink" Target="http://www.citate-celebre.com/category/citate/citate-despre-natura/" TargetMode="External"/><Relationship Id="rId9" Type="http://schemas.openxmlformats.org/officeDocument/2006/relationships/hyperlink" Target="http://www.citate-celebre.com/category/citate/citate-despre-natura/" TargetMode="External"/><Relationship Id="rId10" Type="http://schemas.openxmlformats.org/officeDocument/2006/relationships/hyperlink" Target="http://www.citate-celebre.com/category/citate/citate-despre-natura/" TargetMode="External"/><Relationship Id="rId11" Type="http://schemas.openxmlformats.org/officeDocument/2006/relationships/hyperlink" Target="http://www.citate-celebre.com/category/citate/citate-despre-natura/" TargetMode="External"/><Relationship Id="rId12" Type="http://schemas.openxmlformats.org/officeDocument/2006/relationships/hyperlink" Target="http://www.citate-celebre.com/category/citate/citate-despre-natura/" TargetMode="External"/><Relationship Id="rId13" Type="http://schemas.openxmlformats.org/officeDocument/2006/relationships/hyperlink" Target="http://www.citate-celebre.com/category/citate/citate-despre-natura/" TargetMode="External"/><Relationship Id="rId14" Type="http://schemas.openxmlformats.org/officeDocument/2006/relationships/hyperlink" Target="http://www.citate-celebre.com/category/citate/citate-despre-natura/" TargetMode="External"/><Relationship Id="rId15" Type="http://schemas.openxmlformats.org/officeDocument/2006/relationships/hyperlink" Target="http://www.citate-celebre.com/category/citate/citate-despre-natura/" TargetMode="External"/><Relationship Id="rId16" Type="http://schemas.openxmlformats.org/officeDocument/2006/relationships/hyperlink" Target="http://www.citate-celebre.com/category/citate/citate-despre-natura/" TargetMode="External"/><Relationship Id="rId17" Type="http://schemas.openxmlformats.org/officeDocument/2006/relationships/hyperlink" Target="http://www.citate-celebre.com/category/citate/citate-despre-natura/" TargetMode="External"/><Relationship Id="rId18" Type="http://schemas.openxmlformats.org/officeDocument/2006/relationships/hyperlink" Target="http://www.citate-celebre.com/category/citate/citate-despre-natura/" TargetMode="External"/><Relationship Id="rId19" Type="http://schemas.openxmlformats.org/officeDocument/2006/relationships/hyperlink" Target="http://www.citate-celebre.com/category/citate/citate-despre-natura/" TargetMode="External"/><Relationship Id="rId20" Type="http://schemas.openxmlformats.org/officeDocument/2006/relationships/hyperlink" Target="http://www.citate-celebre.com/category/citate/citate-despre-natura/" TargetMode="External"/><Relationship Id="rId21" Type="http://schemas.openxmlformats.org/officeDocument/2006/relationships/hyperlink" Target="http://www.citate-celebre.com/category/citate/citate-despre-natura/" TargetMode="External"/><Relationship Id="rId22" Type="http://schemas.openxmlformats.org/officeDocument/2006/relationships/hyperlink" Target="http://www.citate-celebre.com/category/citate/citate-despre-natura/" TargetMode="External"/><Relationship Id="rId23" Type="http://schemas.openxmlformats.org/officeDocument/2006/relationships/hyperlink" Target="http://www.citate-celebre.com/category/citate/citate-despre-natura/" TargetMode="External"/><Relationship Id="rId24" Type="http://schemas.openxmlformats.org/officeDocument/2006/relationships/hyperlink" Target="http://www.citate-celebre.com/category/citate/citate-despre-natura/" TargetMode="External"/><Relationship Id="rId25" Type="http://schemas.openxmlformats.org/officeDocument/2006/relationships/hyperlink" Target="http://www.citate-celebre.com/category/citate/citate-despre-natura/" TargetMode="External"/><Relationship Id="rId26" Type="http://schemas.openxmlformats.org/officeDocument/2006/relationships/hyperlink" Target="http://www.citate-celebre.com/category/citate/citate-despre-natura/" TargetMode="External"/><Relationship Id="rId27" Type="http://schemas.openxmlformats.org/officeDocument/2006/relationships/hyperlink" Target="http://www.citate-celebre.com/category/citate/citate-despre-natura/" TargetMode="External"/><Relationship Id="rId28" Type="http://schemas.openxmlformats.org/officeDocument/2006/relationships/hyperlink" Target="http://www.citate-celebre.com/category/citate/citate-despre-natura/" TargetMode="External"/><Relationship Id="rId29" Type="http://schemas.openxmlformats.org/officeDocument/2006/relationships/hyperlink" Target="http://www.citate-celebre.com/category/citate/citate-despre-natura/" TargetMode="External"/><Relationship Id="rId30" Type="http://schemas.openxmlformats.org/officeDocument/2006/relationships/hyperlink" Target="http://www.citate-celebre.com/category/citate/citate-despre-natura/" TargetMode="External"/><Relationship Id="rId31" Type="http://schemas.openxmlformats.org/officeDocument/2006/relationships/hyperlink" Target="http://www.citate-celebre.com/category/citate/citate-despre-natura/" TargetMode="External"/><Relationship Id="rId32" Type="http://schemas.openxmlformats.org/officeDocument/2006/relationships/hyperlink" Target="http://www.citate-celebre.com/category/citate/citate-despre-natura/" TargetMode="External"/><Relationship Id="rId33" Type="http://schemas.openxmlformats.org/officeDocument/2006/relationships/hyperlink" Target="http://www.citate-celebre.com/category/citate/citate-despre-natura/" TargetMode="External"/><Relationship Id="rId34" Type="http://schemas.openxmlformats.org/officeDocument/2006/relationships/hyperlink" Target="http://www.citate-celebre.com/category/citate/citate-despre-natura/" TargetMode="External"/><Relationship Id="rId35" Type="http://schemas.openxmlformats.org/officeDocument/2006/relationships/hyperlink" Target="http://www.citate-celebre.com/category/citate/citate-despre-natura/" TargetMode="External"/><Relationship Id="rId36" Type="http://schemas.openxmlformats.org/officeDocument/2006/relationships/hyperlink" Target="http://www.citate-celebre.com/category/citate/citate-despre-natura/" TargetMode="External"/><Relationship Id="rId37" Type="http://schemas.openxmlformats.org/officeDocument/2006/relationships/hyperlink" Target="http://www.citate-celebre.com/category/citate/citate-despre-natura/" TargetMode="External"/><Relationship Id="rId38" Type="http://schemas.openxmlformats.org/officeDocument/2006/relationships/hyperlink" Target="http://www.citate-celebre.com/category/citate/citate-despre-natura/" TargetMode="External"/><Relationship Id="rId39" Type="http://schemas.openxmlformats.org/officeDocument/2006/relationships/hyperlink" Target="http://www.citate-celebre.com/category/citate/citate-despre-natura/" TargetMode="External"/><Relationship Id="rId40" Type="http://schemas.openxmlformats.org/officeDocument/2006/relationships/hyperlink" Target="http://www.citate-celebre.com/category/citate/citate-despre-natura/" TargetMode="External"/><Relationship Id="rId41" Type="http://schemas.openxmlformats.org/officeDocument/2006/relationships/hyperlink" Target="http://www.citate-celebre.com/category/citate/citate-despre-natura/" TargetMode="External"/><Relationship Id="rId42" Type="http://schemas.openxmlformats.org/officeDocument/2006/relationships/hyperlink" Target="http://www.citate-celebre.com/category/citate/citate-despre-natura/" TargetMode="External"/><Relationship Id="rId43" Type="http://schemas.openxmlformats.org/officeDocument/2006/relationships/hyperlink" Target="http://www.citate-celebre.com/category/citate/citate-despre-natura/" TargetMode="External"/><Relationship Id="rId44" Type="http://schemas.openxmlformats.org/officeDocument/2006/relationships/hyperlink" Target="http://www.citate-celebre.com/category/citate/citate-despre-natura/" TargetMode="External"/><Relationship Id="rId45" Type="http://schemas.openxmlformats.org/officeDocument/2006/relationships/hyperlink" Target="http://www.citate-celebre.com/category/citate/citate-despre-natura/" TargetMode="External"/><Relationship Id="rId46" Type="http://schemas.openxmlformats.org/officeDocument/2006/relationships/hyperlink" Target="http://www.citate-celebre.com/category/citate/citate-despre-natura/" TargetMode="External"/><Relationship Id="rId47" Type="http://schemas.openxmlformats.org/officeDocument/2006/relationships/hyperlink" Target="http://www.citate-celebre.com/category/citate/citate-despre-natura/" TargetMode="External"/><Relationship Id="rId48" Type="http://schemas.openxmlformats.org/officeDocument/2006/relationships/hyperlink" Target="http://www.citate-celebre.com/category/citate/citate-despre-natura/" TargetMode="External"/><Relationship Id="rId49" Type="http://schemas.openxmlformats.org/officeDocument/2006/relationships/hyperlink" Target="http://www.citate-celebre.com/category/citate/citate-despre-natura/" TargetMode="External"/><Relationship Id="rId50" Type="http://schemas.openxmlformats.org/officeDocument/2006/relationships/hyperlink" Target="http://www.citate-celebre.com/category/citate/citate-despre-natura/" TargetMode="External"/><Relationship Id="rId51" Type="http://schemas.openxmlformats.org/officeDocument/2006/relationships/hyperlink" Target="http://www.citate-celebre.com/category/citate/citate-despre-natura/" TargetMode="External"/><Relationship Id="rId52" Type="http://schemas.openxmlformats.org/officeDocument/2006/relationships/hyperlink" Target="http://www.citate-celebre.com/category/citate/citate-despre-natura/" TargetMode="External"/><Relationship Id="rId53" Type="http://schemas.openxmlformats.org/officeDocument/2006/relationships/hyperlink" Target="http://www.citate-celebre.com/category/citate/citate-despre-natura/" TargetMode="External"/><Relationship Id="rId54" Type="http://schemas.openxmlformats.org/officeDocument/2006/relationships/hyperlink" Target="http://www.citate-celebre.com/category/citate/citate-despre-natura/" TargetMode="External"/><Relationship Id="rId55" Type="http://schemas.openxmlformats.org/officeDocument/2006/relationships/hyperlink" Target="http://www.citate-celebre.com/category/citate/citate-despre-natura/" TargetMode="External"/><Relationship Id="rId56" Type="http://schemas.openxmlformats.org/officeDocument/2006/relationships/hyperlink" Target="http://www.citate-celebre.com/category/citate/citate-despre-natura/" TargetMode="External"/><Relationship Id="rId57" Type="http://schemas.openxmlformats.org/officeDocument/2006/relationships/hyperlink" Target="http://www.citate-celebre.com/category/citate/citate-despre-natura/" TargetMode="External"/><Relationship Id="rId58" Type="http://schemas.openxmlformats.org/officeDocument/2006/relationships/hyperlink" Target="http://www.citate-celebre.com/category/citate/citate-despre-natura/" TargetMode="External"/><Relationship Id="rId59" Type="http://schemas.openxmlformats.org/officeDocument/2006/relationships/hyperlink" Target="http://www.citate-celebre.com/category/citate/citate-despre-natura/" TargetMode="External"/><Relationship Id="rId60" Type="http://schemas.openxmlformats.org/officeDocument/2006/relationships/hyperlink" Target="http://www.citate-celebre.com/category/citate/citate-despre-natura/" TargetMode="External"/><Relationship Id="rId61" Type="http://schemas.openxmlformats.org/officeDocument/2006/relationships/hyperlink" Target="http://www.citate-celebre.com/category/citate/citate-despre-natura/" TargetMode="External"/><Relationship Id="rId62" Type="http://schemas.openxmlformats.org/officeDocument/2006/relationships/hyperlink" Target="http://www.citate-celebre.com/category/citate/citate-despre-natura/" TargetMode="External"/><Relationship Id="rId63" Type="http://schemas.openxmlformats.org/officeDocument/2006/relationships/hyperlink" Target="http://www.citate-celebre.com/category/citate/citate-despre-natura/" TargetMode="External"/><Relationship Id="rId64" Type="http://schemas.openxmlformats.org/officeDocument/2006/relationships/hyperlink" Target="http://www.citate-celebre.com/category/citate/citate-despre-natura/" TargetMode="External"/><Relationship Id="rId65" Type="http://schemas.openxmlformats.org/officeDocument/2006/relationships/hyperlink" Target="http://www.citate-celebre.com/category/citate/citate-despre-natura/" TargetMode="External"/><Relationship Id="rId66" Type="http://schemas.openxmlformats.org/officeDocument/2006/relationships/hyperlink" Target="http://www.citate-celebre.com/category/citate/citate-despre-natura/" TargetMode="External"/><Relationship Id="rId67" Type="http://schemas.openxmlformats.org/officeDocument/2006/relationships/hyperlink" Target="http://www.citate-celebre.com/category/citate/citate-despre-natura/" TargetMode="External"/><Relationship Id="rId68" Type="http://schemas.openxmlformats.org/officeDocument/2006/relationships/hyperlink" Target="http://www.citate-celebre.com/category/citate/citate-despre-natura/" TargetMode="External"/><Relationship Id="rId69" Type="http://schemas.openxmlformats.org/officeDocument/2006/relationships/hyperlink" Target="http://www.citate-celebre.com/category/citate/citate-despre-natura/" TargetMode="External"/><Relationship Id="rId70" Type="http://schemas.openxmlformats.org/officeDocument/2006/relationships/hyperlink" Target="http://www.citate-celebre.com/category/citate/citate-despre-natura/" TargetMode="External"/><Relationship Id="rId71" Type="http://schemas.openxmlformats.org/officeDocument/2006/relationships/hyperlink" Target="http://www.citate-celebre.com/category/citate/citate-despre-natura/" TargetMode="External"/><Relationship Id="rId72" Type="http://schemas.openxmlformats.org/officeDocument/2006/relationships/hyperlink" Target="http://www.citate-celebre.com/category/citate/citate-despre-natura/" TargetMode="External"/><Relationship Id="rId73" Type="http://schemas.openxmlformats.org/officeDocument/2006/relationships/hyperlink" Target="http://www.citate-celebre.com/category/citate/citate-despre-natura/" TargetMode="External"/><Relationship Id="rId74" Type="http://schemas.openxmlformats.org/officeDocument/2006/relationships/hyperlink" Target="http://www.citate-celebre.com/category/citate/citate-despre-natura/" TargetMode="External"/><Relationship Id="rId75" Type="http://schemas.openxmlformats.org/officeDocument/2006/relationships/hyperlink" Target="http://www.citate-celebre.com/category/citate/citate-despre-natura/" TargetMode="External"/><Relationship Id="rId76" Type="http://schemas.openxmlformats.org/officeDocument/2006/relationships/hyperlink" Target="http://www.citate-celebre.com/category/citate/citate-despre-natura/" TargetMode="External"/><Relationship Id="rId77" Type="http://schemas.openxmlformats.org/officeDocument/2006/relationships/hyperlink" Target="http://www.citate-celebre.com/category/citate/citate-despre-natura/" TargetMode="External"/><Relationship Id="rId78" Type="http://schemas.openxmlformats.org/officeDocument/2006/relationships/hyperlink" Target="http://www.citate-celebre.com/category/citate/citate-despre-natura/" TargetMode="External"/><Relationship Id="rId79" Type="http://schemas.openxmlformats.org/officeDocument/2006/relationships/hyperlink" Target="http://www.citate-celebre.com/category/citate/citate-despre-natura/" TargetMode="External"/><Relationship Id="rId80" Type="http://schemas.openxmlformats.org/officeDocument/2006/relationships/hyperlink" Target="http://www.citate-celebre.com/category/citate/citate-despre-natura/" TargetMode="External"/><Relationship Id="rId81" Type="http://schemas.openxmlformats.org/officeDocument/2006/relationships/hyperlink" Target="http://www.citate-celebre.com/category/citate/citate-despre-natura/" TargetMode="External"/><Relationship Id="rId82" Type="http://schemas.openxmlformats.org/officeDocument/2006/relationships/hyperlink" Target="http://www.citate-celebre.com/category/citate/citate-despre-natura/" TargetMode="External"/><Relationship Id="rId83" Type="http://schemas.openxmlformats.org/officeDocument/2006/relationships/hyperlink" Target="http://www.citate-celebre.com/category/citate/citate-despre-natura/" TargetMode="External"/><Relationship Id="rId84" Type="http://schemas.openxmlformats.org/officeDocument/2006/relationships/hyperlink" Target="http://www.citate-celebre.com/category/citate/citate-despre-natura/" TargetMode="External"/><Relationship Id="rId85" Type="http://schemas.openxmlformats.org/officeDocument/2006/relationships/hyperlink" Target="http://www.citate-celebre.com/category/citate/citate-despre-natura/" TargetMode="External"/><Relationship Id="rId86" Type="http://schemas.openxmlformats.org/officeDocument/2006/relationships/hyperlink" Target="http://www.citate-celebre.com/category/citate/citate-despre-natura/" TargetMode="External"/><Relationship Id="rId87" Type="http://schemas.openxmlformats.org/officeDocument/2006/relationships/hyperlink" Target="http://www.citate-celebre.com/category/citate/citate-despre-natura/" TargetMode="External"/><Relationship Id="rId88" Type="http://schemas.openxmlformats.org/officeDocument/2006/relationships/hyperlink" Target="http://www.citate-celebre.com/category/citate/citate-despre-natura/" TargetMode="External"/><Relationship Id="rId89" Type="http://schemas.openxmlformats.org/officeDocument/2006/relationships/hyperlink" Target="http://www.citate-celebre.com/category/citate/citate-despre-natura/" TargetMode="External"/><Relationship Id="rId90" Type="http://schemas.openxmlformats.org/officeDocument/2006/relationships/hyperlink" Target="http://www.citate-celebre.com/category/citate/citate-despre-natura/" TargetMode="External"/><Relationship Id="rId91" Type="http://schemas.openxmlformats.org/officeDocument/2006/relationships/hyperlink" Target="http://www.citate-celebre.com/category/citate/citate-despre-natura/" TargetMode="External"/><Relationship Id="rId9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419720" y="5714640"/>
            <a:ext cx="487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"/>
              </a:rPr>
              <a:t>de Mihai Emines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2120" y="4724280"/>
            <a:ext cx="6858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iind băiet păduri cutreieram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cc0000"/>
                </a:solidFill>
                <a:latin typeface="Arial"/>
              </a:rPr>
              <a:t>Portretul fiinţei imag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trupu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vestimentaţ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och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g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ăr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nsuşiri fiz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nsuşiri mo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4114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9900cc"/>
                </a:solidFill>
                <a:latin typeface="Arial"/>
              </a:rPr>
              <a:t>Peisajul imagin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9900cc"/>
                </a:solidFill>
                <a:latin typeface="Arial"/>
              </a:rPr>
              <a:t>soar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9900cc"/>
                </a:solidFill>
                <a:latin typeface="Arial"/>
              </a:rPr>
              <a:t>l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9900cc"/>
                </a:solidFill>
                <a:latin typeface="Arial"/>
              </a:rPr>
              <a:t>stel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9900cc"/>
                </a:solidFill>
                <a:latin typeface="Arial"/>
              </a:rPr>
              <a:t>păd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9900cc"/>
                </a:solidFill>
                <a:latin typeface="Arial"/>
              </a:rPr>
              <a:t>teiul vech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5639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“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paci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unt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fortu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nesfârşit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al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ământulu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de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vorb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cu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ceru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.”_x000b_“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Viaţ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est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 u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dar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p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 car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î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merităm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numa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atunc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când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î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dăruim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.”_x000b_“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Credinţ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est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pasăre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 car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cântă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când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zori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nu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 au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apărut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încă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.”_x000b_“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Iubire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est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atunc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1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2"/>
              </a:rPr>
              <a:t>când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3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4"/>
              </a:rPr>
              <a:t>sufletu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5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6"/>
              </a:rPr>
              <a:t>încep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7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8"/>
              </a:rPr>
              <a:t>să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9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0"/>
              </a:rPr>
              <a:t>cânt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1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2"/>
              </a:rPr>
              <a:t>ş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3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4"/>
              </a:rPr>
              <a:t>floril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5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6"/>
              </a:rPr>
              <a:t>vieţi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7"/>
              </a:rPr>
              <a:t> tal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8"/>
              </a:rPr>
              <a:t>înfloresc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9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0"/>
              </a:rPr>
              <a:t>singur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1"/>
              </a:rPr>
              <a:t>.”_x000b_“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2"/>
              </a:rPr>
              <a:t>Numa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3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4"/>
              </a:rPr>
              <a:t>acel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5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6"/>
              </a:rPr>
              <a:t>est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7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8"/>
              </a:rPr>
              <a:t>liber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9"/>
              </a:rPr>
              <a:t> car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0"/>
              </a:rPr>
              <a:t>iubeşte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1"/>
              </a:rPr>
              <a:t> [...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rsant</cp:lastModifiedBy>
  <dcterms:modified xsi:type="dcterms:W3CDTF">2010-09-03T09:10:4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